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5317-8E7E-4439-8B57-15C031DE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F80C-0842-41B1-9549-C6E792D3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F41D-D40A-441C-8BF6-E9329B48E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1FB9-F661-4E4D-866E-CCB49DA50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B3E8-28D2-49B8-B073-73E97DA5A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D296-1521-4DCB-9C77-EAE67B81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4899-4310-4E5F-A864-7AFC328C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6825-0D4C-45EB-BF9C-EF1BB8EB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279B-4B46-4349-8F1B-7F507216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00AD-0D13-4AA8-8327-1497C218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4BE7-2983-4CCF-8422-F0084CB2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F9B9-4221-43DB-A7C0-58F09825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50AF-B29F-4ECA-A472-78C455FE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0562-02E4-4957-9114-4CB31D91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DD77-0678-4B43-8BCF-CD37CB01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4834-D9EA-4223-9314-3395813B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9C90-926E-48BA-96D5-C4CFB36C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39C3A-B881-48BB-A9D2-CCBB6C6B3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594E8-3847-42C4-80DA-9E039D6C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B3106-DC72-40CB-9E15-658DBEC4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0339A-41C8-4D9D-B594-0DC7E0D1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E9EC4-D207-4091-A053-500FA787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1632-AA94-444A-B300-C8C4FFB2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9970E-D068-4ADC-B91A-717B5681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12955-E67A-4729-8071-B0455598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1595E-7375-4933-95B4-974A9688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40478-6BE6-403C-8212-D56A0ACC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32C35-BB61-4C1E-A563-E3443249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0ED56-F121-492F-8F3A-23BFD785F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0FA44-4610-40E4-91D8-D1526FEB3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B8441-C256-49CD-BDD6-02C4E4D1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1BF21-37C2-4FE9-8922-BD5EE936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07628-3288-4F4B-AD41-E218C3F3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613A-3E33-49C0-82EA-CD9C27CB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4FC7B-50B7-495E-84FA-47051194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EC132-2792-43EE-BFCE-A5B29101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6FA83-7DF2-4381-8968-6CF18218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377BA-D065-4587-A93F-2F2A0D1F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CC1F6-1416-4577-A45C-1B494EB2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14C0B-625C-4C4C-B4C6-8E919062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AA15E-35B4-49A6-A3C1-11EBE0CC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148A6-5495-4EF7-8CD1-3087B1176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C75F7-6B28-4BF1-9414-297C042A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0DC1-BE08-4ACC-B6D5-0361D80B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AEBB-B3BB-43B8-B641-A3FA36E3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3D37-8448-4F46-BDEA-A11E63E9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DD15-9140-4F95-8216-EE91CC06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90F4-D116-4EF9-BF10-77AEE5B8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AB0E-0003-4EF1-88A3-AE1632982C3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43F2-4D34-443A-8935-95C428E39B9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6068-D216-4E55-8A43-A9049FD4FB3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0AB9-5025-42D7-9C93-6E068CDA28A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ullerton.edu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890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Denny Cherr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Senior Database Administrator / Architec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dcherry@awarenesstech.com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Quest Software SQL Server MVP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MCSA, MCDBA, MCTS, MCITP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rvice Broker Concep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milar to other queuing technolog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ta is processed using SEND and RECEIVE instead of SELECT and INSER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ta is sent as an XML data in a binary forma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Queues can be processed automatically or on deman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rvice Broker Concep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ssages can be sent within the database, to another database on the server, or to a database on a remote serv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livery is guaranteed, and in the order s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ssages are processed once and only once, in the order receiv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ssages can range in size from single bytes to mega-bytes in size (max size of ~1GB per messag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mportant SSB Queri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lect * from sys.conversation_endpoi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lect * from sys.transmission_que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lect * from dbo.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QueueNa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emo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QL Server Web Si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www.microsoft.com/sq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ITKnowledgeExchange.techtarget.com/sql-server/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www.microsoft.com/heroeshappenhere/register/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www.searchsqlserver.com/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technet.microsoft.com/en-us/library/ms166044.aspx - Good SSB troubleshooting si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anks For Coming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RIZES!!!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on’t forget we draw prizes on Sunday afternoon, including great products like Acronis and CodeSmith Tools, plus many new books!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ANKS AGAIN TO OUR CONTRIBUTORS!!!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al State Fullerton (</a:t>
            </a: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fullerton.edu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pherion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ww.spherion.com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icrosoft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ww.microsoft.com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Neudesic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ww.neudesic.com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DSA Inc.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ww.pdsa.com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QuickStart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ww.quickstart.com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arbor Objects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ww.harborobjects.com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dyssey Consulting Group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ww.ocgpros.com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Design Inc.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ww.idesign.net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02:13:26Z</dcterms:created>
  <dc:creator>Denny</dc:creator>
  <dc:description/>
  <dc:language>en-US</dc:language>
  <cp:lastModifiedBy>Denny</cp:lastModifiedBy>
  <dcterms:modified xsi:type="dcterms:W3CDTF">2008-01-28T23:12:34Z</dcterms:modified>
  <cp:revision>24</cp:revision>
  <dc:subject/>
  <dc:title>SQL Server 2008 Resource Governor</dc:title>
</cp:coreProperties>
</file>